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notesSlide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3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1.jpeg" ContentType="image/jpeg"/>
  <Override PartName="/ppt/media/image16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9D562-6BA6-4FEB-89AA-CA3CFA9ACC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30DD8-48D2-4AD3-9322-AD324D15126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Times New Roman"/>
              <a:ea typeface="MS PGothic"/>
            </a:endParaRPr>
          </a:p>
        </p:txBody>
      </p:sp>
      <p:sp>
        <p:nvSpPr>
          <p:cNvPr id="3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52F0D-084D-4BFD-8CCD-82A060E9037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C1CEA-8BFB-48F5-85A3-C4C149224783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5B22A-540D-4A25-A18A-DE57972AE01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F3DB0-E661-4E57-B3AF-A9791C80E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BF4D6-478B-4803-B0CA-66C83E623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6ED3C-5DB1-4EC8-A0EA-7AAF1AB99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4906D-B36D-4FA1-AB37-91D995208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C3DD1-15DE-46FA-BCF9-6EC05D40E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963D2-6E8C-44BD-8A88-E95623B4F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359BA-71DD-4E5D-A821-53098BCE4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DE677-E07B-49B6-BCAA-E97152474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0C8EA-CBFC-46B4-8E4D-5E829E648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46027-9F49-4562-934F-2C8E4734E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37817-C240-4CA4-AEA5-6ADC4F563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70DFF-600C-46DB-92B1-27EAFD420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0A004-60B9-4233-AF8C-509C17FEF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6B0D2-E77D-4580-89E9-25A4F64FF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FA9CB-ECC1-410B-B53F-E58193A87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E348D-7D8A-4A06-BA2A-C150AA4C6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F1CB1-1342-4C06-BA29-7586FC74A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FC1131-BBCB-4365-8765-CE3BA5D1E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2EA4CE-6D97-41A6-8372-D844A9D89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8BE3FD-7954-4DDB-86E1-CB8F3B71A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A73156-0077-46CF-8AC0-B2BE0AF71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6088BF-A563-4EA8-9C04-5FDAD4FBF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839A3-CDC3-41F6-94B5-101D791D7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F65183-6B48-4D7A-ACE1-3A9F4AA85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A150BF-4EFA-40DC-9224-24922FE66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DD8987-7345-4FDD-8F7E-66063C0F1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3F738D-9281-427E-8E37-A953AC9A9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B06B95-B4AD-492C-8DED-4822599F5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7DFCD7-DAE3-417F-9319-F6A560DA5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9E6A75-2FEE-44CB-8406-B084BF1D4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566E5B-C755-4F5A-B7B3-562064E3D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29B57A-A725-45F0-A146-7ABBCF3BF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4F073D-9205-49F5-8688-9A89415BC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C0472-31A5-4195-8B98-C6D8713FB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F77231-26F7-45FA-A48C-8545D99FF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E95EDE-CA97-4F3C-91D2-4E1761A21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286105-FF8F-4C06-9B66-9D84C5BC5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76D73D-CF42-4D5E-858E-C9CF5B256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27C432-B736-4616-BEC5-ED2C4B900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D309F9-208F-4D76-824B-A4BC78109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6FFBCE-C3C6-4B1B-B247-9FDA7988E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3E1B8B-7DF0-440B-ACC4-0D052F923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13495A-0AE1-44FC-B5ED-1BD946FE1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4A655-154C-414E-8F90-EB41E2517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ECD85-0714-4E06-AAB2-AD9712BE7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73E74-5C86-4A4A-A024-577D5400D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C5ADC-B3CD-43E4-97DD-C492C495A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14D9F-3570-40A5-9595-BF70D25A8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A081D-2182-4677-B1B0-AC39755B5D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505C1-D55F-44AC-83AE-89002AF3F94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F4EA0-7789-407B-847C-202A0B95E7C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369D1-8C72-4C85-B585-01FF82A594B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orders of hemosta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Full </a:t>
            </a:r>
            <a:r>
              <a:rPr b="0" lang="en-US" sz="32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Prof.</a:t>
            </a:r>
            <a:r>
              <a:rPr b="0" lang="sr-Latn-RS" sz="32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Vladimir Juriši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orders in the structure of the wall of blood vessel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2282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scular disorders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Hereditary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3185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31859c"/>
                </a:solidFill>
                <a:latin typeface="Times New Roman"/>
                <a:ea typeface="Times New Roman"/>
              </a:rPr>
              <a:t>Rendu-Osler-Weber diseas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hereditary hemorrhagic telangiectasia, with numerous AV malformations) and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1859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1859c"/>
                </a:solidFill>
                <a:latin typeface="Times New Roman"/>
                <a:ea typeface="Times New Roman"/>
              </a:rPr>
              <a:t>Ehlers-Danlos-ов syndrome (collagen structure disorder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46c0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стечен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1859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1859c"/>
                </a:solidFill>
                <a:latin typeface="Times New Roman"/>
                <a:ea typeface="Times New Roman"/>
              </a:rPr>
              <a:t>immune processe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Schonlein-Henoch's purpura, SL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1859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1859c"/>
                </a:solidFill>
                <a:latin typeface="Times New Roman"/>
                <a:ea typeface="Times New Roman"/>
              </a:rPr>
              <a:t>lack of vitamin S (scurvy)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dothelial cells lose their contact ability and collagen fiber synthesis is reduc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1859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1859c"/>
                </a:solidFill>
                <a:latin typeface="Times New Roman"/>
                <a:ea typeface="Times New Roman"/>
              </a:rPr>
              <a:t>senile atrophy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 collagen fibers </a:t>
            </a:r>
            <a:r>
              <a:rPr b="1" lang="en-US" sz="2000" spc="-1" strike="noStrike">
                <a:solidFill>
                  <a:srgbClr val="31859c"/>
                </a:solidFill>
                <a:latin typeface="Times New Roman"/>
                <a:ea typeface="Times New Roman"/>
              </a:rPr>
              <a:t>(senile purpura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1859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1859c"/>
                </a:solidFill>
                <a:latin typeface="Times New Roman"/>
                <a:ea typeface="Times New Roman"/>
              </a:rPr>
              <a:t>long-term treatment with corticosteroid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Cushing's disease (steroid purpura), due to protein breakdow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Diagram 2" descr=""/>
          <p:cNvPicPr/>
          <p:nvPr/>
        </p:nvPicPr>
        <p:blipFill>
          <a:blip r:embed="rId1"/>
          <a:stretch/>
        </p:blipFill>
        <p:spPr>
          <a:xfrm>
            <a:off x="0" y="-12600"/>
            <a:ext cx="9144000" cy="688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orders of platelet fun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Quantitative disorders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nges in the number of platelets (thrombocytopenia, less than 100,000/mm3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duced formation of platele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d breakdown of platele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d deposition of platelets in splenomegaly (up to 80%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Qualitative disorders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nges in platelet function (thrombocytopathie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rombocytopeni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0,000 - 400,000 cells/mm3  normally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&lt; 100,000                                     thrombocytopen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50,000 - 100,000      moderate thrombocytopen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&lt; 50,000                     severe thrombocytopen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&lt; 10,000                      vital ris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orders of platelet fun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creased formation of platelets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675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congenital disorders (rare, hereditary)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675"/>
              </a:spcBef>
              <a:buClr>
                <a:srgbClr val="558e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558ed5"/>
                </a:solidFill>
                <a:latin typeface="Times New Roman"/>
                <a:ea typeface="Times New Roman"/>
              </a:rPr>
              <a:t>Fanconi's anemia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disorder of genes for DNA repair enzymes, KS insufficiency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675"/>
              </a:spcBef>
              <a:buClr>
                <a:srgbClr val="558e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558ed5"/>
                </a:solidFill>
                <a:latin typeface="Times New Roman"/>
                <a:ea typeface="Times New Roman"/>
              </a:rPr>
              <a:t>Wiscott-Aldrich syndrome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H-linked disease, eczema, thrombocytopenia and immunodeficiency, decreased IgM, increased IgA and IgE, IgG may be decreased or increased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675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acquired disorders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675"/>
              </a:spcBef>
              <a:buClr>
                <a:srgbClr val="558ed5"/>
              </a:buClr>
              <a:buFont typeface="Times New Roman"/>
              <a:buChar char="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558ed5"/>
                </a:solidFill>
                <a:latin typeface="Times New Roman"/>
                <a:ea typeface="Times New Roman"/>
              </a:rPr>
              <a:t>bone marrow aplasia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radiation, cytostatics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675"/>
              </a:spcBef>
              <a:buClr>
                <a:srgbClr val="558ed5"/>
              </a:buClr>
              <a:buFont typeface="Times New Roman"/>
              <a:buChar char="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558ed5"/>
                </a:solidFill>
                <a:latin typeface="Times New Roman"/>
                <a:ea typeface="Times New Roman"/>
              </a:rPr>
              <a:t>taking alcohol, drugs or hormones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estrogens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675"/>
              </a:spcBef>
              <a:buClr>
                <a:srgbClr val="558ed5"/>
              </a:buClr>
              <a:buFont typeface="Times New Roman"/>
              <a:buChar char="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558ed5"/>
                </a:solidFill>
                <a:latin typeface="Times New Roman"/>
                <a:ea typeface="Times New Roman"/>
              </a:rPr>
              <a:t>lack of vitamin V12 or folic acid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telet athesia disorders and vWF deficienc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1" name="Content Placeholder 3" descr="S01871-004-f008"/>
          <p:cNvPicPr/>
          <p:nvPr/>
        </p:nvPicPr>
        <p:blipFill>
          <a:blip r:embed="rId1"/>
          <a:stretch/>
        </p:blipFill>
        <p:spPr>
          <a:xfrm>
            <a:off x="2311560" y="1798560"/>
            <a:ext cx="4520880" cy="4127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orders of platelet fun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ећана разградња тромбоцита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Congenital thrombocytopenia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558ed5"/>
              </a:buClr>
              <a:buFont typeface="Times New Roman"/>
              <a:buChar char="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558ed5"/>
                </a:solidFill>
                <a:latin typeface="Times New Roman"/>
                <a:ea typeface="Times New Roman"/>
              </a:rPr>
              <a:t>maternal immune reaction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fetal platelets (similar to erythroblastosis fetalis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558ed5"/>
              </a:buClr>
              <a:buFont typeface="Times New Roman"/>
              <a:buChar char="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558ed5"/>
                </a:solidFill>
                <a:latin typeface="Times New Roman"/>
                <a:ea typeface="Times New Roman"/>
              </a:rPr>
              <a:t>autoantibodies in the mother's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loodstream enter the fetus's bloodstream via the placenta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Acquired thrombocytopenia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558ed5"/>
              </a:buClr>
              <a:buFont typeface="Times New Roman"/>
              <a:buChar char="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558ed5"/>
                </a:solidFill>
                <a:latin typeface="Times New Roman"/>
                <a:ea typeface="Times New Roman"/>
              </a:rPr>
              <a:t>drugs</a:t>
            </a:r>
            <a:r>
              <a:rPr b="0" lang="en-US" sz="2500" spc="-1" strike="noStrike">
                <a:solidFill>
                  <a:srgbClr val="558ed5"/>
                </a:solidFill>
                <a:latin typeface="Times New Roman"/>
                <a:ea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toxic effect or type II or III hypersensitivity reactions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558ed5"/>
              </a:buClr>
              <a:buFont typeface="Times New Roman"/>
              <a:buChar char="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558ed5"/>
                </a:solidFill>
                <a:latin typeface="Times New Roman"/>
                <a:ea typeface="Times New Roman"/>
              </a:rPr>
              <a:t>blood</a:t>
            </a:r>
            <a:r>
              <a:rPr b="0" lang="en-US" sz="2500" spc="-1" strike="noStrike">
                <a:solidFill>
                  <a:srgbClr val="558ed5"/>
                </a:solidFill>
                <a:latin typeface="Times New Roman"/>
                <a:ea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fusion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558ed5"/>
              </a:buClr>
              <a:buFont typeface="Times New Roman"/>
              <a:buChar char="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558ed5"/>
                </a:solidFill>
                <a:latin typeface="Times New Roman"/>
                <a:ea typeface="Times New Roman"/>
              </a:rPr>
              <a:t>excessive</a:t>
            </a:r>
            <a:r>
              <a:rPr b="0" lang="en-US" sz="2500" spc="-1" strike="noStrike">
                <a:solidFill>
                  <a:srgbClr val="558ed5"/>
                </a:solidFill>
                <a:latin typeface="Times New Roman"/>
                <a:ea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umption in thrombotic thrombocytopenic purpura and DIK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558ed5"/>
              </a:buClr>
              <a:buFont typeface="Times New Roman"/>
              <a:buChar char="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558ed5"/>
                </a:solidFill>
                <a:latin typeface="Times New Roman"/>
                <a:ea typeface="Times New Roman"/>
              </a:rPr>
              <a:t>idiopathic</a:t>
            </a:r>
            <a:r>
              <a:rPr b="0" lang="en-US" sz="2500" spc="-1" strike="noStrike">
                <a:solidFill>
                  <a:srgbClr val="558ed5"/>
                </a:solidFill>
                <a:latin typeface="Times New Roman"/>
                <a:ea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utoimmune?) thrombocytopenic purpura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920" y="277920"/>
            <a:ext cx="8610480" cy="1170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ugs induced by thrombocytopenia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parin -induced thrombocytopeni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80520" y="1828800"/>
            <a:ext cx="853452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000"/>
                </a:solidFill>
                <a:latin typeface="Times New Roman"/>
              </a:rPr>
              <a:t>It occur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3-5% of patients treated with unfractionated hepari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-2 weeks after the introduction of therap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000"/>
                </a:solidFill>
                <a:latin typeface="Times New Roman"/>
              </a:rPr>
              <a:t>Cause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gG antibodies against platelet factor 4 in a complex with heparin on the platelet membran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000"/>
                </a:solidFill>
                <a:latin typeface="Times New Roman"/>
              </a:rPr>
              <a:t>Pathogenesis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rombosis, arterial and venous (leading to severe thrombocytopenia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antibody binding causes platelet activation and aggreg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000"/>
                </a:solidFill>
                <a:latin typeface="Times New Roman"/>
              </a:rPr>
              <a:t>Therap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thrombocytopenia - stop treatment with hepari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rombolytic thrombocytopenic purpur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Congenital form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ciency of the metalloproteinase enzyme that cleaves vWF in a </a:t>
            </a:r>
            <a:r>
              <a:rPr b="1" lang="en-US" sz="32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platelet-rich thromb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Acquired form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antibodies that inhibit metalloproteina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2"/>
          <p:cNvSpPr/>
          <p:nvPr/>
        </p:nvSpPr>
        <p:spPr>
          <a:xfrm>
            <a:off x="5029200" y="990720"/>
            <a:ext cx="366552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techia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3" descr=""/>
          <p:cNvPicPr/>
          <p:nvPr/>
        </p:nvPicPr>
        <p:blipFill>
          <a:blip r:embed="rId1"/>
          <a:stretch/>
        </p:blipFill>
        <p:spPr>
          <a:xfrm>
            <a:off x="304920" y="1676520"/>
            <a:ext cx="3857400" cy="458784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4" descr=""/>
          <p:cNvPicPr/>
          <p:nvPr/>
        </p:nvPicPr>
        <p:blipFill>
          <a:blip r:embed="rId2"/>
          <a:stretch/>
        </p:blipFill>
        <p:spPr>
          <a:xfrm>
            <a:off x="4648320" y="2666880"/>
            <a:ext cx="4039920" cy="2629080"/>
          </a:xfrm>
          <a:prstGeom prst="rect">
            <a:avLst/>
          </a:prstGeom>
          <a:ln w="0">
            <a:noFill/>
          </a:ln>
        </p:spPr>
      </p:pic>
      <p:sp>
        <p:nvSpPr>
          <p:cNvPr id="211" name="Rectangle 5"/>
          <p:cNvSpPr/>
          <p:nvPr/>
        </p:nvSpPr>
        <p:spPr>
          <a:xfrm>
            <a:off x="4521240" y="5172120"/>
            <a:ext cx="4622760" cy="16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2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they do not fade under pres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diff.dg. angioma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2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they are not palp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dif. dg. vasculiti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6"/>
          <p:cNvSpPr/>
          <p:nvPr/>
        </p:nvSpPr>
        <p:spPr>
          <a:xfrm>
            <a:off x="4572000" y="1828800"/>
            <a:ext cx="4170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typical of disorders of platelet func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nical manifestation of thrombocytopeni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cture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720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mostas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orders of hemostasi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d tendency to bleed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d tendency to thrombos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d tendency to ble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orders of the blood vessel wal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orders of the number and function of platele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agulation factor disord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d tendency to thrombos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1030" descr=""/>
          <p:cNvPicPr/>
          <p:nvPr/>
        </p:nvPicPr>
        <p:blipFill>
          <a:blip r:embed="rId1"/>
          <a:stretch/>
        </p:blipFill>
        <p:spPr>
          <a:xfrm>
            <a:off x="2971800" y="4967280"/>
            <a:ext cx="2895480" cy="167652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816300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nical manifestation of thrombocytopeni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6" name="Picture 1028" descr=""/>
          <p:cNvPicPr/>
          <p:nvPr/>
        </p:nvPicPr>
        <p:blipFill>
          <a:blip r:embed="rId2"/>
          <a:stretch/>
        </p:blipFill>
        <p:spPr>
          <a:xfrm>
            <a:off x="380880" y="2057400"/>
            <a:ext cx="2973600" cy="419112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800240" y="2133360"/>
            <a:ext cx="43434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tal Endangerm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10,000 cells/mm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leeding occur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50,000 cells/mm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ference values: 150-400,000 cells/mm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8" name="Picture 1029" descr=""/>
          <p:cNvPicPr/>
          <p:nvPr/>
        </p:nvPicPr>
        <p:blipFill>
          <a:blip r:embed="rId3"/>
          <a:stretch/>
        </p:blipFill>
        <p:spPr>
          <a:xfrm>
            <a:off x="2590920" y="1828800"/>
            <a:ext cx="2143080" cy="243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orders of coagulation fac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380880" y="14475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Hereditary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all factors may be missing, the most common)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n Willebrand's diseas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ctor VIII deficiency (hemophilia A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ctor IX deficiency (hemophilia V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Acquired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558ed5"/>
              </a:buClr>
              <a:buFont typeface="Times New Roman"/>
              <a:buChar char="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58ed5"/>
                </a:solidFill>
                <a:latin typeface="Times New Roman"/>
                <a:ea typeface="Times New Roman"/>
              </a:rPr>
              <a:t>Liver diseas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558ed5"/>
              </a:buClr>
              <a:buFont typeface="Times New Roman"/>
              <a:buChar char="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58ed5"/>
                </a:solidFill>
                <a:latin typeface="Times New Roman"/>
                <a:ea typeface="Times New Roman"/>
              </a:rPr>
              <a:t>Lack of vitamin K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ue to destruction of intestinal flora by antibiotics or reduced fat absorption (VII, IX and X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558ed5"/>
              </a:buClr>
              <a:buFont typeface="Times New Roman"/>
              <a:buChar char="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58ed5"/>
                </a:solidFill>
                <a:latin typeface="Times New Roman"/>
                <a:ea typeface="Times New Roman"/>
              </a:rPr>
              <a:t>Presence of coagulation inhibitor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At on coagulation factors, paraproteinemia) lupus anticoagulan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558ed5"/>
              </a:buClr>
              <a:buFont typeface="Times New Roman"/>
              <a:buChar char="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58ed5"/>
                </a:solidFill>
                <a:latin typeface="Times New Roman"/>
                <a:ea typeface="Times New Roman"/>
              </a:rPr>
              <a:t>Excessive consumption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 coagulation factors due to increased lysis of fibrinoge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liver failur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decreased synthesis of factors that inactivate plasmin or inactivate plasminogen activator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malignant tumor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at release proteolytic enzymes that break down fibrinog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SE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712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n Willebrand's disease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505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000"/>
                </a:solidFill>
                <a:latin typeface="Times New Roman"/>
              </a:rPr>
              <a:t>Hereditary disease with moderate bleed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osomal dominant inherita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e I = most common (70% of all case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longed bleeding time and normal platelet cou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000"/>
                </a:solidFill>
                <a:latin typeface="Times New Roman"/>
              </a:rPr>
              <a:t>↓</a:t>
            </a:r>
            <a:r>
              <a:rPr b="1" lang="en-US" sz="2400" spc="-1" strike="noStrike">
                <a:solidFill>
                  <a:srgbClr val="ffc000"/>
                </a:solidFill>
                <a:latin typeface="Times New Roman"/>
              </a:rPr>
              <a:t>plasma vWF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ary ↓ factor VIII leve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6" descr="trombociti"/>
          <p:cNvPicPr/>
          <p:nvPr/>
        </p:nvPicPr>
        <p:blipFill>
          <a:blip r:embed="rId1"/>
          <a:stretch/>
        </p:blipFill>
        <p:spPr>
          <a:xfrm>
            <a:off x="890640" y="973080"/>
            <a:ext cx="7572240" cy="5672160"/>
          </a:xfrm>
          <a:prstGeom prst="rect">
            <a:avLst/>
          </a:prstGeom>
          <a:ln w="0">
            <a:noFill/>
          </a:ln>
        </p:spPr>
      </p:pic>
      <p:sp>
        <p:nvSpPr>
          <p:cNvPr id="224" name="Rectangle 1"/>
          <p:cNvSpPr/>
          <p:nvPr/>
        </p:nvSpPr>
        <p:spPr>
          <a:xfrm>
            <a:off x="2971800" y="1143000"/>
            <a:ext cx="2362320" cy="6094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ndothelial ce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3"/>
          <p:cNvSpPr/>
          <p:nvPr/>
        </p:nvSpPr>
        <p:spPr>
          <a:xfrm>
            <a:off x="7086600" y="3230640"/>
            <a:ext cx="1414440" cy="579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ju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4"/>
          <p:cNvSpPr/>
          <p:nvPr/>
        </p:nvSpPr>
        <p:spPr>
          <a:xfrm>
            <a:off x="6629400" y="4724280"/>
            <a:ext cx="1414440" cy="579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atel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5"/>
          <p:cNvSpPr/>
          <p:nvPr/>
        </p:nvSpPr>
        <p:spPr>
          <a:xfrm>
            <a:off x="5905440" y="6111720"/>
            <a:ext cx="2362320" cy="5335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atelet membra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6"/>
          <p:cNvSpPr/>
          <p:nvPr/>
        </p:nvSpPr>
        <p:spPr>
          <a:xfrm>
            <a:off x="1143000" y="1409760"/>
            <a:ext cx="1371600" cy="701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asal membra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7"/>
          <p:cNvSpPr/>
          <p:nvPr/>
        </p:nvSpPr>
        <p:spPr>
          <a:xfrm>
            <a:off x="1120680" y="2325600"/>
            <a:ext cx="1828800" cy="5335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lla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8"/>
          <p:cNvSpPr/>
          <p:nvPr/>
        </p:nvSpPr>
        <p:spPr>
          <a:xfrm>
            <a:off x="1106640" y="2859120"/>
            <a:ext cx="1865160" cy="9507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ubendothelial microfibri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712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mophilia 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5410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editary disease with severe bleed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herited via the </a:t>
            </a:r>
            <a:r>
              <a:rPr b="1" lang="en-US" sz="2400" spc="-1" strike="noStrike">
                <a:solidFill>
                  <a:srgbClr val="ffc000"/>
                </a:solidFill>
                <a:latin typeface="Times New Roman"/>
              </a:rPr>
              <a:t>H chromosom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recessiv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% have no positive family history (</a:t>
            </a:r>
            <a:r>
              <a:rPr b="0" lang="en-US" sz="2400" spc="-1" strike="noStrike">
                <a:solidFill>
                  <a:srgbClr val="ffc000"/>
                </a:solidFill>
                <a:latin typeface="Times New Roman"/>
              </a:rPr>
              <a:t>new mutatio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ctor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II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hibitors develop in 15% of severe cas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46c0a"/>
                </a:solidFill>
                <a:latin typeface="Times New Roman"/>
                <a:ea typeface="Arial"/>
              </a:rPr>
              <a:t>↓ </a:t>
            </a:r>
            <a:r>
              <a:rPr b="1" lang="en-US" sz="2400" spc="-1" strike="noStrike">
                <a:solidFill>
                  <a:srgbClr val="e46c0a"/>
                </a:solidFill>
                <a:latin typeface="Times New Roman"/>
                <a:ea typeface="Arial"/>
              </a:rPr>
              <a:t>amount or activity of factor VII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factor VIII = cofactor for the activation of factor X in the coagulation casca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mptoms usually exist in severe forms (factor VIII &lt;1% of normal values)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1859c"/>
              </a:buClr>
              <a:buFont typeface="Times New Roman"/>
              <a:buChar char="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1859c"/>
                </a:solidFill>
                <a:latin typeface="Times New Roman"/>
              </a:rPr>
              <a:t>bleeding in the joi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1859c"/>
              </a:buClr>
              <a:buFont typeface="Times New Roman"/>
              <a:buChar char="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1859c"/>
                </a:solidFill>
                <a:latin typeface="Times New Roman"/>
              </a:rPr>
              <a:t>bruises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1859c"/>
              </a:buClr>
              <a:buFont typeface="Times New Roman"/>
              <a:buChar char="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1859c"/>
                </a:solidFill>
                <a:latin typeface="Times New Roman"/>
              </a:rPr>
              <a:t>bleeding after trauma or surgical interven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1859c"/>
              </a:buClr>
              <a:buFont typeface="Times New Roman"/>
              <a:buChar char="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1859c"/>
                </a:solidFill>
                <a:latin typeface="Times New Roman"/>
              </a:rPr>
              <a:t>bleeding after tooth extrac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everity of hemophilia 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vere hemophilia – below 2% FVII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erate hemophilia – 2-10% FVII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ld hemophilia – 20–30% FVII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356760"/>
            <a:ext cx="9144000" cy="137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Hemophilia A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deficiency F VIII) and </a:t>
            </a:r>
            <a:r>
              <a:rPr b="1" lang="en-US" sz="2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B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deficiency F IX) are transmitted by H chromosomes and men become ill. Women are carriers, without symp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6" name="Picture 5" descr=""/>
          <p:cNvPicPr/>
          <p:nvPr/>
        </p:nvPicPr>
        <p:blipFill>
          <a:blip r:embed="rId1"/>
          <a:stretch/>
        </p:blipFill>
        <p:spPr>
          <a:xfrm>
            <a:off x="0" y="2438280"/>
            <a:ext cx="4435560" cy="35481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6" descr=""/>
          <p:cNvPicPr/>
          <p:nvPr/>
        </p:nvPicPr>
        <p:blipFill>
          <a:blip r:embed="rId2"/>
          <a:stretch/>
        </p:blipFill>
        <p:spPr>
          <a:xfrm>
            <a:off x="4724280" y="2438280"/>
            <a:ext cx="4419720" cy="3537000"/>
          </a:xfrm>
          <a:prstGeom prst="rect">
            <a:avLst/>
          </a:prstGeom>
          <a:ln w="0">
            <a:noFill/>
          </a:ln>
        </p:spPr>
      </p:pic>
      <p:sp>
        <p:nvSpPr>
          <p:cNvPr id="238" name="Text Box 7"/>
          <p:cNvSpPr/>
          <p:nvPr/>
        </p:nvSpPr>
        <p:spPr>
          <a:xfrm>
            <a:off x="304920" y="6172200"/>
            <a:ext cx="883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Von Willebrand</a:t>
            </a:r>
            <a:r>
              <a:rPr b="1" lang="en-US" sz="18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 disease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ciency of the major fVIII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-360" y="304920"/>
            <a:ext cx="6357960" cy="13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mophilia A (F VIII deficiency; 85%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42560" y="1904760"/>
            <a:ext cx="526716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Spontaneous or traumatic subcutaneous blee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lood in the </a:t>
            </a:r>
            <a:r>
              <a:rPr b="1" lang="en-US" sz="2600" spc="-1" strike="noStrike">
                <a:solidFill>
                  <a:srgbClr val="558ed5"/>
                </a:solidFill>
                <a:latin typeface="Times New Roman"/>
                <a:ea typeface="Times New Roman"/>
              </a:rPr>
              <a:t>urin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leeding in the </a:t>
            </a:r>
            <a:r>
              <a:rPr b="1" lang="en-US" sz="2600" spc="-1" strike="noStrike">
                <a:solidFill>
                  <a:srgbClr val="558ed5"/>
                </a:solidFill>
                <a:latin typeface="Times New Roman"/>
                <a:ea typeface="Times New Roman"/>
              </a:rPr>
              <a:t>mouth, lips, tongu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leeding in the </a:t>
            </a:r>
            <a:r>
              <a:rPr b="1" lang="en-US" sz="2600" spc="-1" strike="noStrike">
                <a:solidFill>
                  <a:srgbClr val="558ed5"/>
                </a:solidFill>
                <a:latin typeface="Times New Roman"/>
                <a:ea typeface="Times New Roman"/>
              </a:rPr>
              <a:t>join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leeding in the </a:t>
            </a:r>
            <a:r>
              <a:rPr b="1" lang="en-US" sz="2600" spc="-1" strike="noStrike">
                <a:solidFill>
                  <a:srgbClr val="558ed5"/>
                </a:solidFill>
                <a:latin typeface="Times New Roman"/>
                <a:ea typeface="Times New Roman"/>
              </a:rPr>
              <a:t>CN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leeding in the </a:t>
            </a:r>
            <a:r>
              <a:rPr b="1" lang="en-US" sz="2600" spc="-1" strike="noStrike">
                <a:solidFill>
                  <a:srgbClr val="558ed5"/>
                </a:solidFill>
                <a:latin typeface="Times New Roman"/>
                <a:ea typeface="Times New Roman"/>
              </a:rPr>
              <a:t>gastrointestinal trac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6" descr=""/>
          <p:cNvPicPr/>
          <p:nvPr/>
        </p:nvPicPr>
        <p:blipFill>
          <a:blip r:embed="rId1"/>
          <a:stretch/>
        </p:blipFill>
        <p:spPr>
          <a:xfrm>
            <a:off x="5791320" y="1676520"/>
            <a:ext cx="3025800" cy="3733560"/>
          </a:xfrm>
          <a:prstGeom prst="rect">
            <a:avLst/>
          </a:prstGeom>
          <a:ln w="0">
            <a:noFill/>
          </a:ln>
        </p:spPr>
      </p:pic>
      <p:sp>
        <p:nvSpPr>
          <p:cNvPr id="242" name="Text Box 7"/>
          <p:cNvSpPr/>
          <p:nvPr/>
        </p:nvSpPr>
        <p:spPr>
          <a:xfrm>
            <a:off x="5410080" y="5791320"/>
            <a:ext cx="37339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варење после интрамускуларне инјекциј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712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mophilia B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657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ctor </a:t>
            </a:r>
            <a:r>
              <a:rPr b="1" lang="en-US" sz="2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IX deficienc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herited via the </a:t>
            </a:r>
            <a:r>
              <a:rPr b="1" lang="en-US" sz="2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X chromosom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recessiv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ch less represented (15%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is </a:t>
            </a:r>
            <a:r>
              <a:rPr b="1" lang="en-US" sz="2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clinically indistinguishabl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om Hemophilia A and the laboratory results are simila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agnosis: determining the concentration of factor I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2"/>
          <p:cNvSpPr/>
          <p:nvPr/>
        </p:nvSpPr>
        <p:spPr>
          <a:xfrm>
            <a:off x="4495680" y="1905120"/>
            <a:ext cx="447372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cchymos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3" descr="_x000b_slide04.tif                                                    0000003B_x0008_G3/8868A                       B2B8FD55:"/>
          <p:cNvPicPr/>
          <p:nvPr/>
        </p:nvPicPr>
        <p:blipFill>
          <a:blip r:embed="rId1"/>
          <a:stretch/>
        </p:blipFill>
        <p:spPr>
          <a:xfrm>
            <a:off x="2295360" y="1752480"/>
            <a:ext cx="2041560" cy="4643640"/>
          </a:xfrm>
          <a:prstGeom prst="rect">
            <a:avLst/>
          </a:prstGeom>
          <a:ln w="0">
            <a:noFill/>
          </a:ln>
        </p:spPr>
      </p:pic>
      <p:sp>
        <p:nvSpPr>
          <p:cNvPr id="247" name="Text Box 4"/>
          <p:cNvSpPr/>
          <p:nvPr/>
        </p:nvSpPr>
        <p:spPr>
          <a:xfrm>
            <a:off x="5867280" y="3352680"/>
            <a:ext cx="2949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typical of coagulation factor deficienc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nical presentation of a lack of coagulation fac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Rectangle 1" descr=""/>
          <p:cNvPicPr/>
          <p:nvPr/>
        </p:nvPicPr>
        <p:blipFill>
          <a:blip r:embed="rId1"/>
          <a:stretch/>
        </p:blipFill>
        <p:spPr>
          <a:xfrm>
            <a:off x="633240" y="2419200"/>
            <a:ext cx="7523280" cy="19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1626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nical presentation of a lack of coagulation fac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0" name="Picture 1027" descr=""/>
          <p:cNvPicPr/>
          <p:nvPr/>
        </p:nvPicPr>
        <p:blipFill>
          <a:blip r:embed="rId1"/>
          <a:stretch/>
        </p:blipFill>
        <p:spPr>
          <a:xfrm>
            <a:off x="380880" y="1905120"/>
            <a:ext cx="4510080" cy="3504960"/>
          </a:xfrm>
          <a:prstGeom prst="rect">
            <a:avLst/>
          </a:prstGeom>
          <a:ln w="0">
            <a:noFill/>
          </a:ln>
        </p:spPr>
      </p:pic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028840" y="1904760"/>
            <a:ext cx="39798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ver insufficienc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most coagulation factors are synthesized in the liv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Text Box 1029"/>
          <p:cNvSpPr/>
          <p:nvPr/>
        </p:nvSpPr>
        <p:spPr>
          <a:xfrm>
            <a:off x="533520" y="5486400"/>
            <a:ext cx="495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conjunctival hemorrha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lood hypercoagulabil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Increased platelet activatio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3200" spc="-1" strike="noStrike">
                <a:solidFill>
                  <a:srgbClr val="558ed5"/>
                </a:solidFill>
                <a:latin typeface="Times New Roman"/>
                <a:ea typeface="Times New Roman"/>
              </a:rPr>
              <a:t>arterial thrombi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ist of platelet aggregate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Accelerated activity of the coagulation system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32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venous thrombi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ist of fibrin complexe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lood hypercoagulabil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Increase in the number of platelets (thrombocytosis)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558e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58ed5"/>
                </a:solidFill>
                <a:latin typeface="Times New Roman"/>
                <a:ea typeface="Times New Roman"/>
              </a:rPr>
              <a:t>essential thrombocythemia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malignant proliferation in the bone marrow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558e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58ed5"/>
                </a:solidFill>
                <a:latin typeface="Times New Roman"/>
                <a:ea typeface="Times New Roman"/>
              </a:rPr>
              <a:t>secondary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malignant blood tumors, connective tissue diseases, after splenectomy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Increase in adhesiveness and aggregation ability of platelets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558e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58ed5"/>
                </a:solidFill>
                <a:latin typeface="Times New Roman"/>
                <a:ea typeface="Times New Roman"/>
              </a:rPr>
              <a:t>disorders in blood flow and damage to the endothelium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herosclerosi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in cholesterol concentr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558e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58ed5"/>
                </a:solidFill>
                <a:latin typeface="Times New Roman"/>
                <a:ea typeface="Times New Roman"/>
              </a:rPr>
              <a:t>disorders that increase the sensitivity of platelets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the action of factors that cause athesia and aggregation of platelets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mok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abet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lood hypercoagulabil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Increased activity of the coagulation system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558e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558ed5"/>
                </a:solidFill>
                <a:latin typeface="Times New Roman"/>
                <a:ea typeface="Times New Roman"/>
              </a:rPr>
              <a:t>blood stasis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in immobile patients or heart failure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558e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558ed5"/>
                </a:solidFill>
                <a:latin typeface="Times New Roman"/>
                <a:ea typeface="Times New Roman"/>
              </a:rPr>
              <a:t>disorders of the ratio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 coagulation factors and anticoagulation factors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- increasing the activity of coagulation factors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women with an increased concentration of estrogen in the blood (oral contraceptives, older than 35 years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gnancy and puerperium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lignant tumor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- </a:t>
            </a:r>
            <a:r>
              <a:rPr b="1" lang="en-US" sz="27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reducing the activity of anticoagulant factors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reditary disorders, complete lack of antithrombin III, plasminogen, proteins C and S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seminated intravascular coagul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An acquired syndrom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acterized b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558e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58ed5"/>
                </a:solidFill>
                <a:latin typeface="Times New Roman"/>
                <a:ea typeface="Times New Roman"/>
              </a:rPr>
              <a:t>by systemic intravascular coagulation 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558e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58ed5"/>
                </a:solidFill>
                <a:latin typeface="Times New Roman"/>
                <a:ea typeface="Times New Roman"/>
              </a:rPr>
              <a:t>blee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seminated intravascular coag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6840" y="11430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(Consumptive coagulopathy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(consumable thrombohemorrhagic syndrome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(defibrination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Dick is a general disorder of hemostasi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as a whole it includes disorders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Blood vessel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Platelet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Coagulatio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Fibrinolytic mechanism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Inhibitors, quinin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The complement system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echanism of orig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Rectangle 3"/>
          <p:cNvSpPr/>
          <p:nvPr/>
        </p:nvSpPr>
        <p:spPr>
          <a:xfrm>
            <a:off x="533520" y="2136600"/>
            <a:ext cx="83055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disorder begins with the activation of coagulation factor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agulation factors are used up and we hav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icrothrombi and blee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brinolysis occur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concentration of fibrin degradation products increases, platelet function is disrupted = bleeding occ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Oval 1052"/>
          <p:cNvSpPr/>
          <p:nvPr/>
        </p:nvSpPr>
        <p:spPr>
          <a:xfrm>
            <a:off x="2057400" y="5334120"/>
            <a:ext cx="2438280" cy="114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Oval 1053"/>
          <p:cNvSpPr/>
          <p:nvPr/>
        </p:nvSpPr>
        <p:spPr>
          <a:xfrm>
            <a:off x="4267080" y="5334120"/>
            <a:ext cx="2438640" cy="114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thogenesis of DI</a:t>
            </a:r>
            <a:r>
              <a:rPr b="0" lang="sr-Latn-R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Text Box 1042"/>
          <p:cNvSpPr/>
          <p:nvPr/>
        </p:nvSpPr>
        <p:spPr>
          <a:xfrm>
            <a:off x="3229920" y="1857240"/>
            <a:ext cx="299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underlying dise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1043"/>
          <p:cNvSpPr/>
          <p:nvPr/>
        </p:nvSpPr>
        <p:spPr>
          <a:xfrm>
            <a:off x="2021400" y="3000240"/>
            <a:ext cx="504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ic activation of coag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1044"/>
          <p:cNvSpPr/>
          <p:nvPr/>
        </p:nvSpPr>
        <p:spPr>
          <a:xfrm>
            <a:off x="367200" y="3724200"/>
            <a:ext cx="2030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esp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ravascu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position of fibr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1045"/>
          <p:cNvSpPr/>
          <p:nvPr/>
        </p:nvSpPr>
        <p:spPr>
          <a:xfrm>
            <a:off x="6573240" y="3786120"/>
            <a:ext cx="198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ump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telets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agulation fa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1046"/>
          <p:cNvSpPr/>
          <p:nvPr/>
        </p:nvSpPr>
        <p:spPr>
          <a:xfrm>
            <a:off x="2369160" y="5715000"/>
            <a:ext cx="188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1859c"/>
                </a:solidFill>
                <a:latin typeface="Times New Roman"/>
                <a:ea typeface="Times New Roman"/>
              </a:rPr>
              <a:t>thrombo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1047"/>
          <p:cNvSpPr/>
          <p:nvPr/>
        </p:nvSpPr>
        <p:spPr>
          <a:xfrm>
            <a:off x="4722480" y="5715000"/>
            <a:ext cx="146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1859c"/>
                </a:solidFill>
                <a:latin typeface="Times New Roman"/>
                <a:ea typeface="Times New Roman"/>
              </a:rPr>
              <a:t>blee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AutoShape 1048"/>
          <p:cNvSpPr/>
          <p:nvPr/>
        </p:nvSpPr>
        <p:spPr>
          <a:xfrm>
            <a:off x="4343400" y="2438280"/>
            <a:ext cx="304920" cy="6098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e46c0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AutoShape 1050"/>
          <p:cNvSpPr/>
          <p:nvPr/>
        </p:nvSpPr>
        <p:spPr>
          <a:xfrm flipH="1" flipV="1">
            <a:off x="2666880" y="3580560"/>
            <a:ext cx="1067040" cy="1143000"/>
          </a:xfrm>
          <a:custGeom>
            <a:avLst/>
            <a:gdLst>
              <a:gd name="textAreaLeft" fmla="*/ 613800 w 1067040"/>
              <a:gd name="textAreaRight" fmla="*/ 900360 w 1067040"/>
              <a:gd name="textAreaTop" fmla="*/ 154080 h 1143000"/>
              <a:gd name="textAreaBottom" fmla="*/ 48924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e46c0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AutoShape 1051"/>
          <p:cNvSpPr/>
          <p:nvPr/>
        </p:nvSpPr>
        <p:spPr>
          <a:xfrm flipV="1">
            <a:off x="5334120" y="3580560"/>
            <a:ext cx="1066680" cy="1143000"/>
          </a:xfrm>
          <a:custGeom>
            <a:avLst/>
            <a:gdLst>
              <a:gd name="textAreaLeft" fmla="*/ 613800 w 1066680"/>
              <a:gd name="textAreaRight" fmla="*/ 900360 w 1066680"/>
              <a:gd name="textAreaTop" fmla="*/ 154080 h 1143000"/>
              <a:gd name="textAreaBottom" fmla="*/ 48924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e46c0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AutoShape 1054"/>
          <p:cNvSpPr/>
          <p:nvPr/>
        </p:nvSpPr>
        <p:spPr>
          <a:xfrm>
            <a:off x="6934320" y="5105520"/>
            <a:ext cx="1066680" cy="1143000"/>
          </a:xfrm>
          <a:custGeom>
            <a:avLst/>
            <a:gdLst>
              <a:gd name="textAreaLeft" fmla="*/ 142920 w 1066680"/>
              <a:gd name="textAreaRight" fmla="*/ 923760 w 106668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e46c0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AutoShape 1055"/>
          <p:cNvSpPr/>
          <p:nvPr/>
        </p:nvSpPr>
        <p:spPr>
          <a:xfrm flipH="1">
            <a:off x="685080" y="5105520"/>
            <a:ext cx="1066680" cy="1143000"/>
          </a:xfrm>
          <a:custGeom>
            <a:avLst/>
            <a:gdLst>
              <a:gd name="textAreaLeft" fmla="*/ 142920 w 1066680"/>
              <a:gd name="textAreaRight" fmla="*/ 923760 w 106668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e46c0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uses of DI</a:t>
            </a:r>
            <a:r>
              <a:rPr b="0" lang="sr-Latn-R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142560" y="11430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Infectio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sepsis (Gram (+) and Gram (-) bacteria), viral infections (Dengue, Ebola), others (rickettsia, malaria)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Trauma/tissue injur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head injury, pancreatitis, fat embolism, penetrating and other severe wound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Malignanci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solid tumors, acute leukemias (especially AML-M3), chronic leukemias (CMML)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Complications after childbirth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placental abruption, amniotic fluid embolism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Vascular disease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large hemangiomas, large aortic aneurysm, vascular malformation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Serious allergic/toxic reaction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toxic shock, snake or spider bit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Serious immune reaction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cute post-transfusion haemolysis, heparin-induced thrombocytopenia, type II)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vere sepsis: a complex clinical syndro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311040" y="4203720"/>
            <a:ext cx="4003920" cy="234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 mortality (28%-50%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terogeneous patient popul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83" name="Group 5"/>
          <p:cNvGrpSpPr/>
          <p:nvPr/>
        </p:nvGrpSpPr>
        <p:grpSpPr>
          <a:xfrm>
            <a:off x="4262400" y="2048040"/>
            <a:ext cx="4267080" cy="4069800"/>
            <a:chOff x="4262400" y="2048040"/>
            <a:chExt cx="4267080" cy="4069800"/>
          </a:xfrm>
        </p:grpSpPr>
        <p:sp>
          <p:nvSpPr>
            <p:cNvPr id="284" name="Oval 6"/>
            <p:cNvSpPr/>
            <p:nvPr/>
          </p:nvSpPr>
          <p:spPr>
            <a:xfrm>
              <a:off x="4262400" y="2048040"/>
              <a:ext cx="2438280" cy="2438280"/>
            </a:xfrm>
            <a:prstGeom prst="ellipse">
              <a:avLst/>
            </a:prstGeom>
            <a:noFill/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Oval 7"/>
            <p:cNvSpPr/>
            <p:nvPr/>
          </p:nvSpPr>
          <p:spPr>
            <a:xfrm>
              <a:off x="6091200" y="2048040"/>
              <a:ext cx="2438280" cy="2438280"/>
            </a:xfrm>
            <a:prstGeom prst="ellipse">
              <a:avLst/>
            </a:prstGeom>
            <a:noFill/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Oval 8"/>
            <p:cNvSpPr/>
            <p:nvPr/>
          </p:nvSpPr>
          <p:spPr>
            <a:xfrm>
              <a:off x="5176800" y="3571920"/>
              <a:ext cx="2438280" cy="2437920"/>
            </a:xfrm>
            <a:prstGeom prst="ellipse">
              <a:avLst/>
            </a:prstGeom>
            <a:noFill/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Oval 9"/>
            <p:cNvSpPr/>
            <p:nvPr/>
          </p:nvSpPr>
          <p:spPr>
            <a:xfrm>
              <a:off x="5786280" y="3190680"/>
              <a:ext cx="1219320" cy="1218960"/>
            </a:xfrm>
            <a:prstGeom prst="ellipse">
              <a:avLst/>
            </a:prstGeom>
            <a:solidFill>
              <a:srgbClr val="00bfec"/>
            </a:solidFill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Oval 10"/>
            <p:cNvSpPr/>
            <p:nvPr/>
          </p:nvSpPr>
          <p:spPr>
            <a:xfrm>
              <a:off x="6548400" y="5749920"/>
              <a:ext cx="380880" cy="3679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Oval 11"/>
            <p:cNvSpPr/>
            <p:nvPr/>
          </p:nvSpPr>
          <p:spPr>
            <a:xfrm>
              <a:off x="4363920" y="3857400"/>
              <a:ext cx="380880" cy="3679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Oval 12"/>
            <p:cNvSpPr/>
            <p:nvPr/>
          </p:nvSpPr>
          <p:spPr>
            <a:xfrm>
              <a:off x="8015040" y="2282760"/>
              <a:ext cx="381240" cy="3679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1" name="Text Box 13"/>
          <p:cNvSpPr/>
          <p:nvPr/>
        </p:nvSpPr>
        <p:spPr>
          <a:xfrm>
            <a:off x="4408560" y="2616120"/>
            <a:ext cx="17431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ic inflam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14"/>
          <p:cNvSpPr/>
          <p:nvPr/>
        </p:nvSpPr>
        <p:spPr>
          <a:xfrm>
            <a:off x="5551560" y="4780080"/>
            <a:ext cx="17431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aired fibrino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15"/>
          <p:cNvSpPr/>
          <p:nvPr/>
        </p:nvSpPr>
        <p:spPr>
          <a:xfrm>
            <a:off x="6745320" y="2770200"/>
            <a:ext cx="1743120" cy="58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ag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2"/>
          <p:cNvSpPr/>
          <p:nvPr/>
        </p:nvSpPr>
        <p:spPr>
          <a:xfrm>
            <a:off x="438120" y="3102120"/>
            <a:ext cx="32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c0504d"/>
                </a:solidFill>
                <a:latin typeface="Calibri"/>
                <a:ea typeface="Arial"/>
              </a:rPr>
              <a:t>Antithrombogen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3"/>
          <p:cNvSpPr/>
          <p:nvPr/>
        </p:nvSpPr>
        <p:spPr>
          <a:xfrm>
            <a:off x="4732920" y="3030480"/>
            <a:ext cx="353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ff0000"/>
                </a:solidFill>
                <a:latin typeface="Calibri"/>
                <a:ea typeface="Arial"/>
              </a:rPr>
              <a:t>Thrombogen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4"/>
          <p:cNvSpPr/>
          <p:nvPr/>
        </p:nvSpPr>
        <p:spPr>
          <a:xfrm>
            <a:off x="1143000" y="2286000"/>
            <a:ext cx="5867280" cy="762120"/>
          </a:xfrm>
          <a:custGeom>
            <a:avLst/>
            <a:gdLst>
              <a:gd name="textAreaLeft" fmla="*/ 1026720 w 5867280"/>
              <a:gd name="textAreaRight" fmla="*/ 4253760 w 58672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5"/>
          <p:cNvSpPr/>
          <p:nvPr/>
        </p:nvSpPr>
        <p:spPr>
          <a:xfrm>
            <a:off x="2912040" y="1295280"/>
            <a:ext cx="294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Blood vessel inju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6"/>
          <p:cNvSpPr/>
          <p:nvPr/>
        </p:nvSpPr>
        <p:spPr>
          <a:xfrm>
            <a:off x="394200" y="3809880"/>
            <a:ext cx="463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Calibri"/>
                <a:ea typeface="Arial"/>
              </a:rPr>
              <a:t>(favor the liquid state of the bloo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7"/>
          <p:cNvSpPr/>
          <p:nvPr/>
        </p:nvSpPr>
        <p:spPr>
          <a:xfrm>
            <a:off x="5337720" y="3809880"/>
            <a:ext cx="25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Calibri"/>
                <a:ea typeface="Arial"/>
              </a:rPr>
              <a:t>(favor coagul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30592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nical manifestation of DI</a:t>
            </a:r>
            <a:r>
              <a:rPr b="0" lang="sr-Latn-R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305920" cy="4191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000"/>
                </a:solidFill>
                <a:latin typeface="Times New Roman"/>
              </a:rPr>
              <a:t>Bleeding tendency in the presence of widespread thrombi in the circul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58ed5"/>
              </a:buClr>
              <a:buFont typeface="Times New Roman"/>
              <a:buChar char="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8ed5"/>
                </a:solidFill>
                <a:latin typeface="Times New Roman"/>
              </a:rPr>
              <a:t>acute DI</a:t>
            </a:r>
            <a:r>
              <a:rPr b="1" lang="sr-Latn-RS" sz="2400" spc="-1" strike="noStrike">
                <a:solidFill>
                  <a:srgbClr val="558ed5"/>
                </a:solidFill>
                <a:latin typeface="Times New Roman"/>
              </a:rPr>
              <a:t>C</a:t>
            </a:r>
            <a:r>
              <a:rPr b="1" lang="en-US" sz="2400" spc="-1" strike="noStrike">
                <a:solidFill>
                  <a:srgbClr val="558ed5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bleeding predominat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ccurs in childbirth complications and traum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58ed5"/>
              </a:buClr>
              <a:buFont typeface="Times New Roman"/>
              <a:buChar char="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8ed5"/>
                </a:solidFill>
                <a:latin typeface="Times New Roman"/>
              </a:rPr>
              <a:t>chronic DIC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thrombotic complications domin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ccurs in tumo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000"/>
                </a:solidFill>
                <a:latin typeface="Times New Roman"/>
              </a:rPr>
              <a:t>Symptoms variab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nimal to marked </a:t>
            </a:r>
            <a:r>
              <a:rPr b="1" lang="en-US" sz="2400" spc="-1" strike="noStrike">
                <a:solidFill>
                  <a:srgbClr val="558ed5"/>
                </a:solidFill>
                <a:latin typeface="Times New Roman"/>
              </a:rPr>
              <a:t>shock, renal failure, dyspnea, cyanosis, convulsions and com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58e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8ed5"/>
                </a:solidFill>
                <a:latin typeface="Times New Roman"/>
              </a:rPr>
              <a:t>hypoten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a characteristic symptom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mosta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scular phas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Vasoconstriction, tissue factor (TF) and prostacyclin release after blood vessel wall inju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rombocyte phas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athesia, aggregation, release of ADP and prostacycli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agulation factor activation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a series of cascade reactions that lead to the production of thrombin and the conversion of fibrinogen to fibri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brinolysi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limits the spread of the thrombus outside the injury site, leads to lysis of the thrombus and wound heal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6" descr="trombociti 2"/>
          <p:cNvPicPr/>
          <p:nvPr/>
        </p:nvPicPr>
        <p:blipFill>
          <a:blip r:embed="rId1"/>
          <a:stretch/>
        </p:blipFill>
        <p:spPr>
          <a:xfrm>
            <a:off x="1219320" y="762120"/>
            <a:ext cx="693396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mosta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6" name="Content Placeholder 5" descr="blood clot.jpg"/>
          <p:cNvPicPr/>
          <p:nvPr/>
        </p:nvPicPr>
        <p:blipFill>
          <a:blip r:embed="rId1"/>
          <a:stretch/>
        </p:blipFill>
        <p:spPr>
          <a:xfrm>
            <a:off x="1066680" y="1676520"/>
            <a:ext cx="640080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orders of hemosta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y increase </a:t>
            </a:r>
            <a:r>
              <a:rPr b="0" lang="en-US" sz="32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the tendency to bleeding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hemorrhagic diathesis, hemorrhagic syndrom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y increase </a:t>
            </a:r>
            <a:r>
              <a:rPr b="0" lang="en-US" sz="32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blood coagulability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tendency to thrombosis and embolis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orders that increase the tendency to hemorrhag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2282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nges </a:t>
            </a:r>
            <a:r>
              <a:rPr b="0" lang="en-US" sz="32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in the structure of the wall of blood vess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nges </a:t>
            </a:r>
            <a:r>
              <a:rPr b="0" lang="en-US" sz="32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in the number and function of platele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nges </a:t>
            </a:r>
            <a:r>
              <a:rPr b="0" lang="en-US" sz="32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in the concentration of blood coagulation fac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disorders can b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inna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acquir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7T06:33:02Z</dcterms:created>
  <dc:creator>Simonovic</dc:creator>
  <dc:description/>
  <dc:language>en-US</dc:language>
  <cp:lastModifiedBy>Jelena Đordjević</cp:lastModifiedBy>
  <dcterms:modified xsi:type="dcterms:W3CDTF">2023-08-22T14:59:38Z</dcterms:modified>
  <cp:revision>70</cp:revision>
  <dc:subject/>
  <dc:title>Поремећаји хемостазе</dc:title>
</cp:coreProperties>
</file>